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F5B-84A2-40F2-BB43-8F6A6923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0D3-FAB1-45BA-A8AF-F1E0B70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7FD-9E3C-4E86-9A8C-E57486C2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CB6-10E4-4D51-8FB2-3AE332DD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CFFA-BBB1-4D6A-9313-183CA3AC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7979-B977-4489-B65F-9C89ED49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DF8D-12F4-4095-A175-1716DBD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38C-D476-42EA-86D4-36B9ED89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A30-3FF4-4FDD-924F-CFA6A0D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4195-D1FE-4037-8A9C-68A55F8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3CF1-B68B-4E31-A7B3-A08F5B6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5B7-18A1-4142-86FA-42554271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514F-71BD-4E03-BF71-EBE86C0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85B-204E-41B5-9442-2D2F230B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E6C5-9785-488D-BE13-8BB095A1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5AE3-0CC6-4575-8A5D-9AB2C941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E114-E996-44E5-B704-C55C6B4B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6B1B1-B33F-493C-8AAA-D4F78C7C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6A21D-00D0-46ED-BFE6-1CF349D0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5878D-F2F6-48AF-9021-A55B22F6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B2FF1-345A-4A76-95F7-B7B2597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A3B72-4A5B-4F86-8459-24CEBE0B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45A-46A6-4534-99CE-2306F99B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91E16-0C95-42F8-B9DD-5DB2182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ACC95-3BFC-4ECB-B440-C2435303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B9CBE-4EC9-4FF7-BDBA-421DCB4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71BC7-23B8-48A6-B492-86D2FF9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2D9AD-8CE8-4CEC-824C-84A11AA4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7BDEE-910A-4C05-A60A-B334243E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96B02-ADCF-49AC-9507-2D6A7420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0631-FD40-478A-BE82-3A497BB6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88E3-ACED-466A-97B4-F047FD9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8E2B-549E-49E1-86F0-BAB541F8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DF9-A878-4584-AB2A-32F0289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BB52-9549-44EC-8392-B4AFF00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D232-50D0-48B1-AF44-EC5E9FFE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47EB-1EAB-4729-8B36-3BA89D3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6C06-8E8B-4EFE-84BE-6273D75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6C71-B78D-4EAC-A271-30EC481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FDC9-FC72-4FDD-9CA8-A622D63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EEC0-1EAD-4569-AFD4-2DD2218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FB16-5BF5-42B4-BBCD-FCD4E95E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8C6F-FC21-4006-8512-7A1ACC1E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9A5EC-5FFA-41B7-8CFF-9DDAE7FE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AF7-0ADC-40AF-AFEE-0B939642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B9677-7DF3-48AB-AA3E-FFDAC00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895C9-D3D2-4147-B9D0-6050207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49DA6-71AE-4735-8A2B-9FFB3791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C266B-2B13-4667-B165-B973E005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F44A6-7F14-4ADF-BA41-407BE03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54A2D-5283-4268-9D80-28C9E88B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EAFA2-C8A6-48D0-A1A7-608EF46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A40C1-CBE3-4E53-9344-4E3147F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87B84-85B9-4C20-B8DE-463C363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546AA-93CB-41FD-878C-A44BDE88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CBD-0FCC-43FC-B270-A7441B45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B5D07-9FAF-440D-A8F4-87CB88FC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F13A-2BDF-455A-8E99-D0035F19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3FFA8-CAB2-4A46-B905-0B11024C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85BB-3DC4-45F4-A0FF-658377C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2483-BEDD-4D50-9331-852CC6BF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0EB8C-0C74-4615-90F2-3F9C4A4C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C338-7DB7-46DA-AE7C-B3175274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D1CF-D24F-42B1-9DF8-247B504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80FF-827B-4F17-87BA-2DB9E5F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6998-B794-46A4-9752-24E2A3E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CD2-1EA9-4FDC-87B7-C890324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A8117-736C-4702-A81A-687C3778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AC727-7742-4B7A-A752-EBEECAA6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6B31D-1697-45FB-A115-CDD38D72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A9E-01A5-40EA-A184-ABB7C96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DE3-26E0-4F3E-BBDD-9766780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48E-E093-471E-BA58-C22563B4091C}" type="slidenum">
              <a:rPr b="1" lang="en-N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EF8-C47D-4106-81CD-5674B04C932A}" type="slidenum">
              <a:rPr b="1" lang="en-NZ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8B35-43E6-412C-8551-23516697248C}" type="slidenum">
              <a:rPr b="1" lang="en-N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BAEF-4529-4D84-A94F-457F5E7BFCAB}" type="slidenum">
              <a:rPr b="1" lang="en-NZ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B4D0-8633-4D18-B524-85033E0F2867}" type="slidenum">
              <a:rPr b="1" lang="en-N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5245-88D1-4253-A0A6-5C66E1E6BE22}" type="slidenum">
              <a:rPr b="1" lang="en-N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ear.ign.com/email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nimoto.com/play/NlRuT094QpV14CrnPU8Svg" TargetMode="External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uzzle.com/articles/history-home-video-game-consoles.html" TargetMode="External"/><Relationship Id="rId2" Type="http://schemas.openxmlformats.org/officeDocument/2006/relationships/hyperlink" Target="http://www.xbox.com/en-NZ/Kinect/GetStarted" TargetMode="External"/><Relationship Id="rId3" Type="http://schemas.openxmlformats.org/officeDocument/2006/relationships/hyperlink" Target="http://www.videogameshardware.org/" TargetMode="External"/><Relationship Id="rId4" Type="http://schemas.openxmlformats.org/officeDocument/2006/relationships/hyperlink" Target="http://www.google.co.nz/#hl=en&amp;biw=1276&amp;bih=801&amp;q=RAM&amp;aq=f&amp;aqi=&amp;aql=&amp;oq=&amp;gs_rfai=&amp;fp=ba95106cf13a9c7c" TargetMode="External"/><Relationship Id="rId5" Type="http://schemas.openxmlformats.org/officeDocument/2006/relationships/hyperlink" Target="http://www.thegameconsole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d6ecff"/>
                </a:solidFill>
                <a:latin typeface="Tw Cen MT"/>
              </a:rPr>
              <a:t>GAMING</a:t>
            </a:r>
            <a:endParaRPr b="0" lang="en-US" sz="60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5720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Tw Cen MT"/>
              </a:rPr>
              <a:t>How has it changed through the decades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00040" y="44290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By Sally, Hannah, Caius and 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C:\Documents and Settings\rhsuser\Local Settings\Temporary Internet Files\Content.IE5\G5EC1UJ2\MC900357973[1].wmf"/>
          <p:cNvPicPr/>
          <p:nvPr/>
        </p:nvPicPr>
        <p:blipFill>
          <a:blip r:embed="rId1"/>
          <a:stretch/>
        </p:blipFill>
        <p:spPr>
          <a:xfrm>
            <a:off x="6643800" y="357120"/>
            <a:ext cx="2325600" cy="2193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Documents and Settings\rhsuser\Local Settings\Temporary Internet Files\Content.IE5\505L7UOJ\MC900334490[1].wmf"/>
          <p:cNvPicPr/>
          <p:nvPr/>
        </p:nvPicPr>
        <p:blipFill>
          <a:blip r:embed="rId2"/>
          <a:stretch/>
        </p:blipFill>
        <p:spPr>
          <a:xfrm>
            <a:off x="142920" y="3857760"/>
            <a:ext cx="19638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Newly Release – x-box Kinec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05" name="Kinect Official Trailer [www.keepvid.com]_WMV V9.wmv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7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microsoft-xbox-kinect.jpg"/>
          <p:cNvPicPr/>
          <p:nvPr/>
        </p:nvPicPr>
        <p:blipFill>
          <a:blip r:embed="rId1"/>
          <a:stretch/>
        </p:blipFill>
        <p:spPr>
          <a:xfrm>
            <a:off x="1357200" y="1143000"/>
            <a:ext cx="58816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Video game Technology 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285840" y="36432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How has the video consoles’ technology changed through the deca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Xbox 360 vs. Playstation 3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Xbox 36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Playstation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2" name="Picture 6" descr="imagesCABC9ONF.jpg"/>
          <p:cNvPicPr/>
          <p:nvPr/>
        </p:nvPicPr>
        <p:blipFill>
          <a:blip r:embed="rId1"/>
          <a:stretch/>
        </p:blipFill>
        <p:spPr>
          <a:xfrm>
            <a:off x="5429160" y="2428920"/>
            <a:ext cx="2500560" cy="264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13" name="Picture 7" descr="xbox360.jpg"/>
          <p:cNvPicPr/>
          <p:nvPr/>
        </p:nvPicPr>
        <p:blipFill>
          <a:blip r:embed="rId2"/>
          <a:stretch/>
        </p:blipFill>
        <p:spPr>
          <a:xfrm>
            <a:off x="857160" y="2357280"/>
            <a:ext cx="2714760" cy="274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285840" y="285840"/>
            <a:ext cx="8572320" cy="67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Ever since the PlayStation 3 arrived on the market to challenge the Xbox 360 in 2006, gamers have argued about which system is b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processors for the Xbox and PS3 are unique. It can be difficult to make direct compar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comparison that </a:t>
            </a:r>
            <a:r>
              <a:rPr b="0" lang="en-NZ" sz="1800" spc="-1" strike="noStrike" u="sng">
                <a:solidFill>
                  <a:srgbClr val="eb8803"/>
                </a:solidFill>
                <a:uFillTx/>
                <a:latin typeface="Tw Cen MT"/>
                <a:hlinkClick r:id="rId1"/>
              </a:rPr>
              <a:t>Jesse Schedeen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 from IGN Gear have broken the console into ten technical catego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PU -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central processing unit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GPU -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graphics process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AM -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Random-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Hard dr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Disc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Vide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Audi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Backwards Compatibilit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154402-ps3_xbox360_original.jpg"/>
          <p:cNvPicPr/>
          <p:nvPr/>
        </p:nvPicPr>
        <p:blipFill>
          <a:blip r:embed="rId2"/>
          <a:stretch/>
        </p:blipFill>
        <p:spPr>
          <a:xfrm>
            <a:off x="4643280" y="3000240"/>
            <a:ext cx="3505320" cy="24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4714920" y="6429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285840" y="2858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Out of the ten categories, Play station 3 is the W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t won seven out of the ten categories in this Internet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Tw Cen MT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285840" y="1571760"/>
            <a:ext cx="86439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PU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GPU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Xbox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AM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Hard drives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Disc drive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Video Support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Audio Support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Connectivity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P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Networking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Xbox 360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Backwards Compatibility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Winner: Xbox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eb8803"/>
                </a:solidFill>
                <a:uFillTx/>
                <a:latin typeface="Tw Cen MT"/>
                <a:hlinkClick r:id="rId1"/>
              </a:rPr>
              <a:t>http://animoto.com/play/NlRuT094QpV14CrnPU8Svg#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12720" y="142920"/>
            <a:ext cx="815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Tw Cen MT"/>
              </a:rPr>
              <a:t>Bibliography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Internet Sources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au.gear.ign.com/articles/111/1116182p2.html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1"/>
              </a:rPr>
              <a:t>http://www.buzzle.com/articles/history-home-video-game-consoles.html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2"/>
              </a:rPr>
              <a:t>http://www.xbox.com/en-NZ/Kinect/GetStarted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3"/>
              </a:rPr>
              <a:t>http://www.videogameshardware.org/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4"/>
              </a:rPr>
              <a:t>http://www.google.co.nz/#hl=en&amp;biw=1276&amp;bih=801&amp;q=RAM&amp;aq=f&amp;aqi=&amp;aql=&amp;oq=&amp;gs_rfai=&amp;fp=ba95106cf13a9c7c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eb8803"/>
                </a:solidFill>
                <a:uFillTx/>
                <a:latin typeface="Tw Cen MT"/>
                <a:hlinkClick r:id="rId5"/>
              </a:rPr>
              <a:t>http://www.thegameconsole.com/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en.wikipedia.org/wiki/Video_game_consol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en.wikipedia.org/wiki/Video_game_industry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www.gamesradar.com/f/1998-vs-2008-how-has-gaming-changed-in-10-years/a-2008122210433062025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http://www.time.com/time/covers/1101050523/console_timeline/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www.pcworld.com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www.youtube.com/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www.google.com/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 u="sng">
                <a:solidFill>
                  <a:srgbClr val="000000"/>
                </a:solidFill>
                <a:uFillTx/>
                <a:latin typeface="Tw Cen MT"/>
              </a:rPr>
              <a:t>Book Sources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Cool Stuff Exploded – pg 154- Chris Woodford -First published 2008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Tw Cen MT"/>
              </a:rPr>
              <a:t>The Art of Game Worlds – pg 1 – Dave Morris &amp; Leo Hartas – First published 2004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3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31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31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magnavoxodyssey.jpg"/>
          <p:cNvPicPr/>
          <p:nvPr/>
        </p:nvPicPr>
        <p:blipFill>
          <a:blip r:embed="rId1"/>
          <a:stretch/>
        </p:blipFill>
        <p:spPr>
          <a:xfrm>
            <a:off x="2143080" y="2786040"/>
            <a:ext cx="5095800" cy="33973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Origins of Video Conso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Released in 1972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Magnavox Odyssey is the first home video game conso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imagesCAM6RQHK.jpg"/>
          <p:cNvPicPr/>
          <p:nvPr/>
        </p:nvPicPr>
        <p:blipFill>
          <a:blip r:embed="rId1"/>
          <a:stretch/>
        </p:blipFill>
        <p:spPr>
          <a:xfrm>
            <a:off x="5286240" y="5000760"/>
            <a:ext cx="2733840" cy="1676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4e5b6f"/>
                </a:solidFill>
                <a:latin typeface="Tw Cen MT"/>
              </a:rPr>
              <a:t>Video Consoles through the decade (2000 – 2010)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272" name="Picture 2" descr="imagesCAIQQZOL.jpg"/>
          <p:cNvPicPr/>
          <p:nvPr/>
        </p:nvPicPr>
        <p:blipFill>
          <a:blip r:embed="rId2"/>
          <a:stretch/>
        </p:blipFill>
        <p:spPr>
          <a:xfrm>
            <a:off x="571680" y="357120"/>
            <a:ext cx="245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Sony Play station 1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first new version was actually a revision in early 1996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t was made in response to complaints that PlayStations were overheating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Sony did not change the technical aspects or the cosmetics, but did remove the S-video port left over from the Japanese releas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5" name="Picture 3" descr="psone.jpg"/>
          <p:cNvPicPr/>
          <p:nvPr/>
        </p:nvPicPr>
        <p:blipFill>
          <a:blip r:embed="rId1"/>
          <a:stretch/>
        </p:blipFill>
        <p:spPr>
          <a:xfrm>
            <a:off x="5572080" y="3286080"/>
            <a:ext cx="2755800" cy="2343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playstation.jpg"/>
          <p:cNvPicPr/>
          <p:nvPr/>
        </p:nvPicPr>
        <p:blipFill>
          <a:blip r:embed="rId2"/>
          <a:stretch/>
        </p:blipFill>
        <p:spPr>
          <a:xfrm>
            <a:off x="642960" y="3286080"/>
            <a:ext cx="2571840" cy="27003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428760" y="5929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1996 Play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857920" y="59292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2000 Play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imagesCAYECJ8C.jpg"/>
          <p:cNvPicPr/>
          <p:nvPr/>
        </p:nvPicPr>
        <p:blipFill>
          <a:blip r:embed="rId1"/>
          <a:stretch/>
        </p:blipFill>
        <p:spPr>
          <a:xfrm>
            <a:off x="5429160" y="314316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ps2-photo.jpg"/>
          <p:cNvPicPr/>
          <p:nvPr/>
        </p:nvPicPr>
        <p:blipFill>
          <a:blip r:embed="rId2"/>
          <a:stretch/>
        </p:blipFill>
        <p:spPr>
          <a:xfrm>
            <a:off x="928800" y="3643200"/>
            <a:ext cx="2311200" cy="2205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Sony Play Station 2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eleased in 200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PlayStation 2 was very popular and is often sold out in retail stor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n September 2004, Sony unveiled its third major hardware revision it is smaller, thinner, and quieter than the older versions. Also known as play station 2 sli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71680" y="60721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 station 2 released i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286240" y="550080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 station 2 slim released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Nintendo Game Cub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hysically shaped similar to a geometric cube, the outside casing of the Nintendo GameCube comes in a variety of , such as indigo, platinum, and black (also a limited edition Resident Evil 4 platinum and black game console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Nintendo GameCube uses a unique storage medium, the GameCube Optical Disc, a proprietary format based on Matsushita's optical-disc technology.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857160" y="1571760"/>
            <a:ext cx="721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gamecube.jpg"/>
          <p:cNvPicPr/>
          <p:nvPr/>
        </p:nvPicPr>
        <p:blipFill>
          <a:blip r:embed="rId1"/>
          <a:stretch/>
        </p:blipFill>
        <p:spPr>
          <a:xfrm>
            <a:off x="4929120" y="3643200"/>
            <a:ext cx="3000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xbox360.jpg"/>
          <p:cNvPicPr/>
          <p:nvPr/>
        </p:nvPicPr>
        <p:blipFill>
          <a:blip r:embed="rId1"/>
          <a:stretch/>
        </p:blipFill>
        <p:spPr>
          <a:xfrm>
            <a:off x="428760" y="3398760"/>
            <a:ext cx="2428920" cy="26020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Microsoft X-Box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Microsoft Xbox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s a sixth generation era video game console first released on November 15, 2001 in North Americ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w Cen MT"/>
              </a:rPr>
              <a:t>The Xbox 360 </a:t>
            </a: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is Microsoft's newest video game console, the successor to their original Xbox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2" name="Picture 6" descr="xbox.jpg"/>
          <p:cNvPicPr/>
          <p:nvPr/>
        </p:nvPicPr>
        <p:blipFill>
          <a:blip r:embed="rId2"/>
          <a:stretch/>
        </p:blipFill>
        <p:spPr>
          <a:xfrm>
            <a:off x="5786280" y="33577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8"/>
          <p:cNvSpPr/>
          <p:nvPr/>
        </p:nvSpPr>
        <p:spPr>
          <a:xfrm>
            <a:off x="28584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X-box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5786280" y="57862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Microsoft x-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Sony PlayStation 3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PlayStation 3 was released in North America on November 17, 2006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A major feature that distinguishes the PlayStation 3 from playStation 1 and 2 is its unified online gaming servic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redesigned, slimmer version of the PlayStation 3 is currently the only model in productio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7" name="Picture 3" descr="imagesCABC9ONF.jpg"/>
          <p:cNvPicPr/>
          <p:nvPr/>
        </p:nvPicPr>
        <p:blipFill>
          <a:blip r:embed="rId1"/>
          <a:stretch/>
        </p:blipFill>
        <p:spPr>
          <a:xfrm>
            <a:off x="5643720" y="3143160"/>
            <a:ext cx="2512800" cy="2662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sony-playstation-3-3ej-460.jpg"/>
          <p:cNvPicPr/>
          <p:nvPr/>
        </p:nvPicPr>
        <p:blipFill>
          <a:blip r:embed="rId2"/>
          <a:stretch/>
        </p:blipFill>
        <p:spPr>
          <a:xfrm>
            <a:off x="500040" y="3143160"/>
            <a:ext cx="3587760" cy="2691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357120" y="60008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st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215040" y="5857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Playstation 3 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wii_console_3.jpg"/>
          <p:cNvPicPr/>
          <p:nvPr/>
        </p:nvPicPr>
        <p:blipFill>
          <a:blip r:embed="rId1"/>
          <a:stretch/>
        </p:blipFill>
        <p:spPr>
          <a:xfrm>
            <a:off x="5000760" y="3500280"/>
            <a:ext cx="3022560" cy="3022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4e5b6f"/>
                </a:solidFill>
                <a:latin typeface="Tw Cen MT"/>
              </a:rPr>
              <a:t>Nintendo Wii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Released in 2006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console was known by the codename of "Revolution" until April 27, 2006, when it was renamed Wii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w Cen MT"/>
              </a:rPr>
              <a:t>The Wii Remote is the primary controller for the console. It uses a combination of built-in accelerometers and infrared detection to sense its position in 3D space when pointed at the LEDs within the Sensor Ba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0:52:22Z</dcterms:created>
  <dc:creator>Christchurch City Libraries</dc:creator>
  <dc:description/>
  <dc:language>en-US</dc:language>
  <cp:lastModifiedBy>Student Computing</cp:lastModifiedBy>
  <dcterms:modified xsi:type="dcterms:W3CDTF">2010-12-07T22:41:07Z</dcterms:modified>
  <cp:revision>60</cp:revision>
  <dc:subject/>
  <dc:title>Gaming</dc:title>
</cp:coreProperties>
</file>